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AAB-2374-4B78-A058-451A9827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838-D501-4861-AC8E-9A0436D2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ADE-EDFF-4882-950A-C210CB43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1A4-F33B-4D85-8CDF-E969BE60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57BA-3678-48C7-840F-EFCB165D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C3DF-EE74-4090-B670-88085C30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FA0D-F2A1-4C43-AB4D-F4A04AE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E5CE-9E0B-4FBB-8D09-7C7EBC9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4963-A1BC-4F12-8053-6B4BAE0A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379D-7A5F-4587-9B98-B1A43021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FB42-E261-41CD-962A-DCACFB45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F56-DCEE-4A90-8F50-A1F6B3EC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4B41-C4FC-4855-BD2A-EB608BB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5C0A-D424-4B7A-B635-3D13A7A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C527-1BFB-4C18-BB5B-3C74A801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AFF5-17A3-4815-833F-021E946E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6D7-C95C-4451-B378-6A099A80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767-359D-434B-9D23-258B1F4D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09F-2126-4287-9E4B-08B9766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0BC-CCCB-43AB-975F-51A5FD9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973-E205-4E48-A0E4-EAC82FF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6FA-A422-4B07-8A06-A1FA7CC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8AF-F494-4CE4-9C81-7BF6CB4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F08-2CEC-4D7D-BF09-348B125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3E07-F673-4E4B-B24C-D4FDBA7948B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A31B-12EC-480F-BE96-0DDFDB9E43F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Personal Learning Profi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vannah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s important to learn how your brain works because you will need it for later in life wich I have not gotten to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can use what I have learned about the way my brain works in school. I can do this when I cant figure out a hard probl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learning style is Tactile/ Kinesthetic and visual learn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means I learn best by doing, reading, and viewing info in prin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learning technique is concrete sequentia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means I am realistic, orderly, logical and careful of detail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found out that the left side of my brain is dominate, and the right is less domina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intelligence type is street – wi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at means I can work things too my advantag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32:40Z</dcterms:created>
  <dc:creator>student</dc:creator>
  <dc:description/>
  <dc:language>en-US</dc:language>
  <cp:lastModifiedBy>student</cp:lastModifiedBy>
  <dcterms:modified xsi:type="dcterms:W3CDTF">2010-12-08T16:31:42Z</dcterms:modified>
  <cp:revision>4</cp:revision>
  <dc:subject/>
  <dc:title>My Personal Learning Profile</dc:title>
</cp:coreProperties>
</file>